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8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82.jpeg" ContentType="image/jpeg"/>
  <Override PartName="/ppt/media/image40.wmf" ContentType="image/x-wmf"/>
  <Override PartName="/ppt/media/image38.wmf" ContentType="image/x-wmf"/>
  <Override PartName="/ppt/media/image34.wmf" ContentType="image/x-wmf"/>
  <Override PartName="/ppt/media/image32.wmf" ContentType="image/x-wmf"/>
  <Override PartName="/ppt/media/image31.wmf" ContentType="image/x-wmf"/>
  <Override PartName="/ppt/media/image41.wmf" ContentType="image/x-wmf"/>
  <Override PartName="/ppt/media/image4.gif" ContentType="image/gif"/>
  <Override PartName="/ppt/media/image8.jpeg" ContentType="image/jpeg"/>
  <Override PartName="/ppt/media/image39.wmf" ContentType="image/x-wmf"/>
  <Override PartName="/ppt/media/image24.gif" ContentType="image/gif"/>
  <Override PartName="/ppt/media/image20.wmf" ContentType="image/x-wmf"/>
  <Override PartName="/ppt/media/image57.wmf" ContentType="image/x-wmf"/>
  <Override PartName="/ppt/media/image26.jpeg" ContentType="image/jpeg"/>
  <Override PartName="/ppt/media/image72.wmf" ContentType="image/x-wmf"/>
  <Override PartName="/ppt/media/image2.png" ContentType="image/png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60.wmf" ContentType="image/x-wmf"/>
  <Override PartName="/ppt/media/image61.wmf" ContentType="image/x-wmf"/>
  <Override PartName="/ppt/media/image25.wmf" ContentType="image/x-wmf"/>
  <Override PartName="/ppt/media/image62.wmf" ContentType="image/x-wmf"/>
  <Override PartName="/ppt/media/image63.wmf" ContentType="image/x-wmf"/>
  <Override PartName="/ppt/media/image65.wmf" ContentType="image/x-wmf"/>
  <Override PartName="/ppt/media/image66.wmf" ContentType="image/x-wmf"/>
  <Override PartName="/ppt/media/image64.wmf" ContentType="image/x-wmf"/>
  <Override PartName="/ppt/media/image11.jpeg" ContentType="image/jpeg"/>
  <Override PartName="/ppt/media/image81.png" ContentType="image/png"/>
  <Override PartName="/ppt/media/image79.wmf" ContentType="image/x-wmf"/>
  <Override PartName="/ppt/media/image67.wmf" ContentType="image/x-wmf"/>
  <Override PartName="/ppt/media/image30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69.wmf" ContentType="image/x-wmf"/>
  <Override PartName="/ppt/media/image71.wmf" ContentType="image/x-wmf"/>
  <Override PartName="/ppt/media/image1.png" ContentType="image/png"/>
  <Override PartName="/ppt/media/image70.wmf" ContentType="image/x-wmf"/>
  <Override PartName="/ppt/media/image28.wmf" ContentType="image/x-wmf"/>
  <Override PartName="/ppt/media/image68.wmf" ContentType="image/x-wmf"/>
  <Override PartName="/ppt/media/image16.wmf" ContentType="image/x-wmf"/>
  <Override PartName="/ppt/media/image14.wmf" ContentType="image/x-wmf"/>
  <Override PartName="/ppt/media/image33.wmf" ContentType="image/x-wmf"/>
  <Override PartName="/ppt/media/image3.wmf" ContentType="image/x-wmf"/>
  <Override PartName="/ppt/media/image80.wmf" ContentType="image/x-wmf"/>
  <Override PartName="/ppt/media/image15.wmf" ContentType="image/x-wmf"/>
  <Override PartName="/ppt/media/image19.wmf" ContentType="image/x-wmf"/>
  <Override PartName="/ppt/media/image7.wmf" ContentType="image/x-wmf"/>
  <Override PartName="/ppt/media/image29.jpeg" ContentType="image/jpeg"/>
  <Override PartName="/ppt/media/image37.wmf" ContentType="image/x-wmf"/>
  <Override PartName="/ppt/media/image23.wmf" ContentType="image/x-wmf"/>
  <Override PartName="/ppt/media/image12.wmf" ContentType="image/x-wmf"/>
  <Override PartName="/ppt/media/image49.wmf" ContentType="image/x-wmf"/>
  <Override PartName="/ppt/media/image13.wmf" ContentType="image/x-wmf"/>
  <Override PartName="/ppt/media/image27.jpeg" ContentType="image/jpeg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D208-B33C-41DF-A5D7-47AF9EF20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 F5 to start game.  Ctrl-End for help on creating a new ga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 slide immediately follows each question slide.  Click on question mark to go to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left box at bottom returns to game board.  Clicking right box returns to ques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 F5 to start ga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ADE4-C6B9-4D39-BEF2-C2681F08D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DC28-C3E1-413A-A86E-93F73136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1E98-2C8A-4B65-B460-53F341A38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47D5-71B9-48BD-8A91-C676CA241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0263-E6B3-4C87-A5BA-F452F1A0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63C6-9032-4B82-B1D0-C32E23F6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E23B-6F0B-447B-A711-6CB0AE9F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8C69-C133-403D-8F0B-A13231AC5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B4F9-6A30-4B51-B8DE-270FD12E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E738-B8B5-48BD-9A2B-A68D89E8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334C-882C-41EF-8405-D702ABDC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47D1-3CAF-4EC2-9441-2017784D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11A7-21B5-4027-9ED0-55712B8AD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gif"/><Relationship Id="rId4" Type="http://schemas.openxmlformats.org/officeDocument/2006/relationships/slide" Target="slide4.xml"/><Relationship Id="rId5" Type="http://schemas.openxmlformats.org/officeDocument/2006/relationships/image" Target="../media/image25.wmf"/><Relationship Id="rId6" Type="http://schemas.openxmlformats.org/officeDocument/2006/relationships/slide" Target="slide3.xml"/><Relationship Id="rId7" Type="http://schemas.openxmlformats.org/officeDocument/2006/relationships/image" Target="../media/image26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image" Target="../media/image29.jpeg"/><Relationship Id="rId5" Type="http://schemas.openxmlformats.org/officeDocument/2006/relationships/slide" Target="slide3.xml"/><Relationship Id="rId6" Type="http://schemas.openxmlformats.org/officeDocument/2006/relationships/image" Target="../media/image26.jpeg"/><Relationship Id="rId7" Type="http://schemas.openxmlformats.org/officeDocument/2006/relationships/slide" Target="slide3.xml"/><Relationship Id="rId8" Type="http://schemas.openxmlformats.org/officeDocument/2006/relationships/oleObject" Target="../embeddings/oleObject2.bin"/><Relationship Id="rId9" Type="http://schemas.openxmlformats.org/officeDocument/2006/relationships/image" Target="../media/image23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25.wmf"/><Relationship Id="rId5" Type="http://schemas.openxmlformats.org/officeDocument/2006/relationships/slide" Target="slide3.xml"/><Relationship Id="rId6" Type="http://schemas.openxmlformats.org/officeDocument/2006/relationships/image" Target="../media/image26.jpeg"/><Relationship Id="rId7" Type="http://schemas.openxmlformats.org/officeDocument/2006/relationships/slide" Target="slide3.xml"/><Relationship Id="rId8" Type="http://schemas.openxmlformats.org/officeDocument/2006/relationships/oleObject" Target="../embeddings/oleObject1.bin"/><Relationship Id="rId9" Type="http://schemas.openxmlformats.org/officeDocument/2006/relationships/image" Target="../media/image30.wmf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3.xml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29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1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30.wmf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4.xml"/><Relationship Id="rId3" Type="http://schemas.openxmlformats.org/officeDocument/2006/relationships/image" Target="../media/image25.wmf"/><Relationship Id="rId4" Type="http://schemas.openxmlformats.org/officeDocument/2006/relationships/slide" Target="slide3.xml"/><Relationship Id="rId5" Type="http://schemas.openxmlformats.org/officeDocument/2006/relationships/image" Target="../media/image26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32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3.xml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29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3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32.wmf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4.xml"/><Relationship Id="rId3" Type="http://schemas.openxmlformats.org/officeDocument/2006/relationships/image" Target="../media/image25.wmf"/><Relationship Id="rId4" Type="http://schemas.openxmlformats.org/officeDocument/2006/relationships/slide" Target="slide3.xml"/><Relationship Id="rId5" Type="http://schemas.openxmlformats.org/officeDocument/2006/relationships/image" Target="../media/image26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34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3.xml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29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5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34.wmf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4.xml"/><Relationship Id="rId3" Type="http://schemas.openxmlformats.org/officeDocument/2006/relationships/image" Target="../media/image25.wmf"/><Relationship Id="rId4" Type="http://schemas.openxmlformats.org/officeDocument/2006/relationships/slide" Target="slide3.xml"/><Relationship Id="rId5" Type="http://schemas.openxmlformats.org/officeDocument/2006/relationships/image" Target="../media/image26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36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3.xml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29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7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36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gi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5.xml"/><Relationship Id="rId3" Type="http://schemas.openxmlformats.org/officeDocument/2006/relationships/image" Target="../media/image25.wmf"/><Relationship Id="rId4" Type="http://schemas.openxmlformats.org/officeDocument/2006/relationships/slide" Target="slide3.xml"/><Relationship Id="rId5" Type="http://schemas.openxmlformats.org/officeDocument/2006/relationships/image" Target="../media/image26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38.wmf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3.xml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29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9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38.wmf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5.xml"/><Relationship Id="rId3" Type="http://schemas.openxmlformats.org/officeDocument/2006/relationships/image" Target="../media/image25.wmf"/><Relationship Id="rId4" Type="http://schemas.openxmlformats.org/officeDocument/2006/relationships/slide" Target="slide3.xml"/><Relationship Id="rId5" Type="http://schemas.openxmlformats.org/officeDocument/2006/relationships/image" Target="../media/image26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40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3.xml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29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41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40.wmf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5.xml"/><Relationship Id="rId3" Type="http://schemas.openxmlformats.org/officeDocument/2006/relationships/image" Target="../media/image25.wmf"/><Relationship Id="rId4" Type="http://schemas.openxmlformats.org/officeDocument/2006/relationships/slide" Target="slide3.xml"/><Relationship Id="rId5" Type="http://schemas.openxmlformats.org/officeDocument/2006/relationships/image" Target="../media/image26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42.wmf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3.xml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29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43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42.wmf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5.xml"/><Relationship Id="rId3" Type="http://schemas.openxmlformats.org/officeDocument/2006/relationships/image" Target="../media/image25.wmf"/><Relationship Id="rId4" Type="http://schemas.openxmlformats.org/officeDocument/2006/relationships/slide" Target="slide3.xml"/><Relationship Id="rId5" Type="http://schemas.openxmlformats.org/officeDocument/2006/relationships/image" Target="../media/image26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44.wmf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3.xml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29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45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44.wmf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5.xml"/><Relationship Id="rId3" Type="http://schemas.openxmlformats.org/officeDocument/2006/relationships/image" Target="../media/image25.wmf"/><Relationship Id="rId4" Type="http://schemas.openxmlformats.org/officeDocument/2006/relationships/slide" Target="slide3.xml"/><Relationship Id="rId5" Type="http://schemas.openxmlformats.org/officeDocument/2006/relationships/image" Target="../media/image26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46.wmf"/><Relationship Id="rId9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3.xml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29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47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46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.xml"/><Relationship Id="rId3" Type="http://schemas.openxmlformats.org/officeDocument/2006/relationships/slide" Target="slide14.xml"/><Relationship Id="rId4" Type="http://schemas.openxmlformats.org/officeDocument/2006/relationships/slide" Target="slide20.xml"/><Relationship Id="rId5" Type="http://schemas.openxmlformats.org/officeDocument/2006/relationships/slide" Target="slide38.xml"/><Relationship Id="rId6" Type="http://schemas.openxmlformats.org/officeDocument/2006/relationships/slide" Target="slide28.xml"/><Relationship Id="rId7" Type="http://schemas.openxmlformats.org/officeDocument/2006/relationships/slide" Target="slide36.xml"/><Relationship Id="rId8" Type="http://schemas.openxmlformats.org/officeDocument/2006/relationships/slide" Target="slide26.xml"/><Relationship Id="rId9" Type="http://schemas.openxmlformats.org/officeDocument/2006/relationships/slide" Target="slide34.xml"/><Relationship Id="rId10" Type="http://schemas.openxmlformats.org/officeDocument/2006/relationships/slide" Target="slide22.xml"/><Relationship Id="rId11" Type="http://schemas.openxmlformats.org/officeDocument/2006/relationships/slide" Target="slide24.xml"/><Relationship Id="rId12" Type="http://schemas.openxmlformats.org/officeDocument/2006/relationships/slide" Target="slide32.xml"/><Relationship Id="rId13" Type="http://schemas.openxmlformats.org/officeDocument/2006/relationships/slide" Target="slide30.xml"/><Relationship Id="rId14" Type="http://schemas.openxmlformats.org/officeDocument/2006/relationships/slide" Target="slide18.xml"/><Relationship Id="rId15" Type="http://schemas.openxmlformats.org/officeDocument/2006/relationships/slide" Target="slide16.xml"/><Relationship Id="rId16" Type="http://schemas.openxmlformats.org/officeDocument/2006/relationships/slide" Target="slide58.xml"/><Relationship Id="rId17" Type="http://schemas.openxmlformats.org/officeDocument/2006/relationships/slide" Target="slide56.xml"/><Relationship Id="rId18" Type="http://schemas.openxmlformats.org/officeDocument/2006/relationships/slide" Target="slide54.xml"/><Relationship Id="rId19" Type="http://schemas.openxmlformats.org/officeDocument/2006/relationships/slide" Target="slide52.xml"/><Relationship Id="rId20" Type="http://schemas.openxmlformats.org/officeDocument/2006/relationships/slide" Target="slide50.xml"/><Relationship Id="rId21" Type="http://schemas.openxmlformats.org/officeDocument/2006/relationships/slide" Target="slide48.xml"/><Relationship Id="rId22" Type="http://schemas.openxmlformats.org/officeDocument/2006/relationships/slide" Target="slide46.xml"/><Relationship Id="rId23" Type="http://schemas.openxmlformats.org/officeDocument/2006/relationships/slide" Target="slide44.xml"/><Relationship Id="rId24" Type="http://schemas.openxmlformats.org/officeDocument/2006/relationships/slide" Target="slide42.xml"/><Relationship Id="rId25" Type="http://schemas.openxmlformats.org/officeDocument/2006/relationships/slide" Target="slide40.xml"/><Relationship Id="rId26" Type="http://schemas.openxmlformats.org/officeDocument/2006/relationships/slide" Target="slide12.xml"/><Relationship Id="rId27" Type="http://schemas.openxmlformats.org/officeDocument/2006/relationships/slide" Target="slide62.xml"/><Relationship Id="rId28" Type="http://schemas.openxmlformats.org/officeDocument/2006/relationships/slide" Target="slide60.xml"/><Relationship Id="rId29" Type="http://schemas.openxmlformats.org/officeDocument/2006/relationships/slide" Target="slide64.xml"/><Relationship Id="rId30" Type="http://schemas.openxmlformats.org/officeDocument/2006/relationships/slide" Target="slide66.xml"/><Relationship Id="rId31" Type="http://schemas.openxmlformats.org/officeDocument/2006/relationships/slide" Target="slide68.xml"/><Relationship Id="rId32" Type="http://schemas.openxmlformats.org/officeDocument/2006/relationships/slide" Target="slide5.xml"/><Relationship Id="rId33" Type="http://schemas.openxmlformats.org/officeDocument/2006/relationships/slide" Target="slide6.xml"/><Relationship Id="rId34" Type="http://schemas.openxmlformats.org/officeDocument/2006/relationships/slide" Target="slide7.xml"/><Relationship Id="rId35" Type="http://schemas.openxmlformats.org/officeDocument/2006/relationships/slide" Target="slide8.xml"/><Relationship Id="rId36" Type="http://schemas.openxmlformats.org/officeDocument/2006/relationships/slide" Target="slide9.xml"/><Relationship Id="rId37" Type="http://schemas.openxmlformats.org/officeDocument/2006/relationships/slide" Target="slide10.xml"/><Relationship Id="rId38" Type="http://schemas.openxmlformats.org/officeDocument/2006/relationships/image" Target="../media/image9.wmf"/><Relationship Id="rId39" Type="http://schemas.openxmlformats.org/officeDocument/2006/relationships/image" Target="../media/image10.wmf"/><Relationship Id="rId4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6.xml"/><Relationship Id="rId3" Type="http://schemas.openxmlformats.org/officeDocument/2006/relationships/image" Target="../media/image25.wmf"/><Relationship Id="rId4" Type="http://schemas.openxmlformats.org/officeDocument/2006/relationships/slide" Target="slide3.xml"/><Relationship Id="rId5" Type="http://schemas.openxmlformats.org/officeDocument/2006/relationships/image" Target="../media/image26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48.wmf"/><Relationship Id="rId9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3.xml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29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49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48.wmf"/><Relationship Id="rId10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6.xml"/><Relationship Id="rId3" Type="http://schemas.openxmlformats.org/officeDocument/2006/relationships/image" Target="../media/image25.wmf"/><Relationship Id="rId4" Type="http://schemas.openxmlformats.org/officeDocument/2006/relationships/slide" Target="slide3.xml"/><Relationship Id="rId5" Type="http://schemas.openxmlformats.org/officeDocument/2006/relationships/image" Target="../media/image26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50.wmf"/><Relationship Id="rId9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image" Target="../media/image26.jpeg"/><Relationship Id="rId5" Type="http://schemas.openxmlformats.org/officeDocument/2006/relationships/slide" Target="slide3.xml"/><Relationship Id="rId6" Type="http://schemas.openxmlformats.org/officeDocument/2006/relationships/image" Target="../media/image29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51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52.wmf"/><Relationship Id="rId1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6.xml"/><Relationship Id="rId3" Type="http://schemas.openxmlformats.org/officeDocument/2006/relationships/image" Target="../media/image25.wmf"/><Relationship Id="rId4" Type="http://schemas.openxmlformats.org/officeDocument/2006/relationships/slide" Target="slide3.xml"/><Relationship Id="rId5" Type="http://schemas.openxmlformats.org/officeDocument/2006/relationships/image" Target="../media/image26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53.wmf"/><Relationship Id="rId9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3.xml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29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4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53.wmf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6.xml"/><Relationship Id="rId3" Type="http://schemas.openxmlformats.org/officeDocument/2006/relationships/image" Target="../media/image25.wmf"/><Relationship Id="rId4" Type="http://schemas.openxmlformats.org/officeDocument/2006/relationships/slide" Target="slide3.xml"/><Relationship Id="rId5" Type="http://schemas.openxmlformats.org/officeDocument/2006/relationships/image" Target="../media/image26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55.wmf"/><Relationship Id="rId9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3.xml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29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6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55.wmf"/><Relationship Id="rId10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image" Target="../media/image25.wmf"/><Relationship Id="rId5" Type="http://schemas.openxmlformats.org/officeDocument/2006/relationships/slide" Target="slide3.xml"/><Relationship Id="rId6" Type="http://schemas.openxmlformats.org/officeDocument/2006/relationships/image" Target="../media/image26.jpeg"/><Relationship Id="rId7" Type="http://schemas.openxmlformats.org/officeDocument/2006/relationships/slide" Target="slide3.xml"/><Relationship Id="rId8" Type="http://schemas.openxmlformats.org/officeDocument/2006/relationships/oleObject" Target="../embeddings/oleObject1.bin"/><Relationship Id="rId9" Type="http://schemas.openxmlformats.org/officeDocument/2006/relationships/image" Target="../media/image57.wmf"/><Relationship Id="rId10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3.xml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29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8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57.wm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7.xml"/><Relationship Id="rId3" Type="http://schemas.openxmlformats.org/officeDocument/2006/relationships/image" Target="../media/image25.wmf"/><Relationship Id="rId4" Type="http://schemas.openxmlformats.org/officeDocument/2006/relationships/slide" Target="slide3.xml"/><Relationship Id="rId5" Type="http://schemas.openxmlformats.org/officeDocument/2006/relationships/image" Target="../media/image26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image" Target="../media/image26.jpeg"/><Relationship Id="rId5" Type="http://schemas.openxmlformats.org/officeDocument/2006/relationships/slide" Target="slide3.xml"/><Relationship Id="rId6" Type="http://schemas.openxmlformats.org/officeDocument/2006/relationships/image" Target="../media/image29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59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9.wmf"/><Relationship Id="rId1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7.xml"/><Relationship Id="rId3" Type="http://schemas.openxmlformats.org/officeDocument/2006/relationships/image" Target="../media/image25.wmf"/><Relationship Id="rId4" Type="http://schemas.openxmlformats.org/officeDocument/2006/relationships/slide" Target="slide3.xml"/><Relationship Id="rId5" Type="http://schemas.openxmlformats.org/officeDocument/2006/relationships/image" Target="../media/image26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60.wmf"/><Relationship Id="rId9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3.xml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29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61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60.wmf"/><Relationship Id="rId10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7.xml"/><Relationship Id="rId3" Type="http://schemas.openxmlformats.org/officeDocument/2006/relationships/image" Target="../media/image25.wmf"/><Relationship Id="rId4" Type="http://schemas.openxmlformats.org/officeDocument/2006/relationships/slide" Target="slide3.xml"/><Relationship Id="rId5" Type="http://schemas.openxmlformats.org/officeDocument/2006/relationships/image" Target="../media/image26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62.wmf"/><Relationship Id="rId9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3.xml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29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9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63.wmf"/><Relationship Id="rId10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7.xml"/><Relationship Id="rId3" Type="http://schemas.openxmlformats.org/officeDocument/2006/relationships/image" Target="../media/image25.wmf"/><Relationship Id="rId4" Type="http://schemas.openxmlformats.org/officeDocument/2006/relationships/slide" Target="slide3.xml"/><Relationship Id="rId5" Type="http://schemas.openxmlformats.org/officeDocument/2006/relationships/image" Target="../media/image26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64.wmf"/><Relationship Id="rId9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3.xml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29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61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64.wmf"/><Relationship Id="rId10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7.xml"/><Relationship Id="rId3" Type="http://schemas.openxmlformats.org/officeDocument/2006/relationships/image" Target="../media/image25.wmf"/><Relationship Id="rId4" Type="http://schemas.openxmlformats.org/officeDocument/2006/relationships/slide" Target="slide3.xml"/><Relationship Id="rId5" Type="http://schemas.openxmlformats.org/officeDocument/2006/relationships/image" Target="../media/image26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65.wmf"/><Relationship Id="rId9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image" Target="../media/image26.jpeg"/><Relationship Id="rId5" Type="http://schemas.openxmlformats.org/officeDocument/2006/relationships/slide" Target="slide3.xml"/><Relationship Id="rId6" Type="http://schemas.openxmlformats.org/officeDocument/2006/relationships/image" Target="../media/image29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59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65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3.xml"/><Relationship Id="rId3" Type="http://schemas.openxmlformats.org/officeDocument/2006/relationships/slide" Target="slide8.xml"/><Relationship Id="rId4" Type="http://schemas.openxmlformats.org/officeDocument/2006/relationships/image" Target="../media/image25.wmf"/><Relationship Id="rId5" Type="http://schemas.openxmlformats.org/officeDocument/2006/relationships/slide" Target="slide3.xml"/><Relationship Id="rId6" Type="http://schemas.openxmlformats.org/officeDocument/2006/relationships/image" Target="../media/image26.jpeg"/><Relationship Id="rId7" Type="http://schemas.openxmlformats.org/officeDocument/2006/relationships/slide" Target="slide3.xml"/><Relationship Id="rId8" Type="http://schemas.openxmlformats.org/officeDocument/2006/relationships/oleObject" Target="../embeddings/oleObject1.bin"/><Relationship Id="rId9" Type="http://schemas.openxmlformats.org/officeDocument/2006/relationships/image" Target="../media/image66.wmf"/><Relationship Id="rId10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3.xml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29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67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66.wmf"/><Relationship Id="rId10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8.xml"/><Relationship Id="rId3" Type="http://schemas.openxmlformats.org/officeDocument/2006/relationships/image" Target="../media/image25.wmf"/><Relationship Id="rId4" Type="http://schemas.openxmlformats.org/officeDocument/2006/relationships/slide" Target="slide3.xml"/><Relationship Id="rId5" Type="http://schemas.openxmlformats.org/officeDocument/2006/relationships/image" Target="../media/image26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68.wmf"/><Relationship Id="rId9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3.xml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29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68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69.wmf"/><Relationship Id="rId10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8.xml"/><Relationship Id="rId3" Type="http://schemas.openxmlformats.org/officeDocument/2006/relationships/image" Target="../media/image25.wmf"/><Relationship Id="rId4" Type="http://schemas.openxmlformats.org/officeDocument/2006/relationships/slide" Target="slide3.xml"/><Relationship Id="rId5" Type="http://schemas.openxmlformats.org/officeDocument/2006/relationships/image" Target="../media/image26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70.wmf"/><Relationship Id="rId9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3.xml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29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0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71.wmf"/><Relationship Id="rId10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8.xml"/><Relationship Id="rId3" Type="http://schemas.openxmlformats.org/officeDocument/2006/relationships/image" Target="../media/image25.wmf"/><Relationship Id="rId4" Type="http://schemas.openxmlformats.org/officeDocument/2006/relationships/slide" Target="slide3.xml"/><Relationship Id="rId5" Type="http://schemas.openxmlformats.org/officeDocument/2006/relationships/image" Target="../media/image26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72.wmf"/><Relationship Id="rId9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3.xml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29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3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74.wmf"/><Relationship Id="rId10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8.xml"/><Relationship Id="rId3" Type="http://schemas.openxmlformats.org/officeDocument/2006/relationships/image" Target="../media/image25.wmf"/><Relationship Id="rId4" Type="http://schemas.openxmlformats.org/officeDocument/2006/relationships/slide" Target="slide3.xml"/><Relationship Id="rId5" Type="http://schemas.openxmlformats.org/officeDocument/2006/relationships/image" Target="../media/image26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75.wmf"/><Relationship Id="rId9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3.xml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29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6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77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3.xml"/><Relationship Id="rId3" Type="http://schemas.openxmlformats.org/officeDocument/2006/relationships/slide" Target="slide9.xml"/><Relationship Id="rId4" Type="http://schemas.openxmlformats.org/officeDocument/2006/relationships/image" Target="../media/image25.wmf"/><Relationship Id="rId5" Type="http://schemas.openxmlformats.org/officeDocument/2006/relationships/slide" Target="slide3.xml"/><Relationship Id="rId6" Type="http://schemas.openxmlformats.org/officeDocument/2006/relationships/image" Target="../media/image26.jpeg"/><Relationship Id="rId7" Type="http://schemas.openxmlformats.org/officeDocument/2006/relationships/slide" Target="slide3.xml"/><Relationship Id="rId8" Type="http://schemas.openxmlformats.org/officeDocument/2006/relationships/oleObject" Target="../embeddings/oleObject1.bin"/><Relationship Id="rId9" Type="http://schemas.openxmlformats.org/officeDocument/2006/relationships/image" Target="../media/image78.wmf"/><Relationship Id="rId10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3.xml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29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9.wmf"/><Relationship Id="rId8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9.xml"/><Relationship Id="rId3" Type="http://schemas.openxmlformats.org/officeDocument/2006/relationships/image" Target="../media/image25.wmf"/><Relationship Id="rId4" Type="http://schemas.openxmlformats.org/officeDocument/2006/relationships/slide" Target="slide3.xml"/><Relationship Id="rId5" Type="http://schemas.openxmlformats.org/officeDocument/2006/relationships/image" Target="../media/image26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78.wmf"/><Relationship Id="rId9" Type="http://schemas.openxmlformats.org/officeDocument/2006/relationships/image" Target="../media/image80.wmf"/><Relationship Id="rId10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3.xml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29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9.wmf"/><Relationship Id="rId8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9.xml"/><Relationship Id="rId3" Type="http://schemas.openxmlformats.org/officeDocument/2006/relationships/image" Target="../media/image25.wmf"/><Relationship Id="rId4" Type="http://schemas.openxmlformats.org/officeDocument/2006/relationships/slide" Target="slide3.xml"/><Relationship Id="rId5" Type="http://schemas.openxmlformats.org/officeDocument/2006/relationships/image" Target="../media/image26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78.wmf"/><Relationship Id="rId9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3.xml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29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9.wmf"/><Relationship Id="rId8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9.xml"/><Relationship Id="rId3" Type="http://schemas.openxmlformats.org/officeDocument/2006/relationships/image" Target="../media/image25.wmf"/><Relationship Id="rId4" Type="http://schemas.openxmlformats.org/officeDocument/2006/relationships/slide" Target="slide3.xml"/><Relationship Id="rId5" Type="http://schemas.openxmlformats.org/officeDocument/2006/relationships/image" Target="../media/image26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78.wmf"/><Relationship Id="rId9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3.xml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29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9.wmf"/><Relationship Id="rId8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9.xml"/><Relationship Id="rId3" Type="http://schemas.openxmlformats.org/officeDocument/2006/relationships/image" Target="../media/image25.wmf"/><Relationship Id="rId4" Type="http://schemas.openxmlformats.org/officeDocument/2006/relationships/slide" Target="slide3.xml"/><Relationship Id="rId5" Type="http://schemas.openxmlformats.org/officeDocument/2006/relationships/image" Target="../media/image26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78.wmf"/><Relationship Id="rId9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3.xml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29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9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6.jpeg"/><Relationship Id="rId3" Type="http://schemas.openxmlformats.org/officeDocument/2006/relationships/image" Target="../media/image25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8.wmf"/><Relationship Id="rId6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6.jpeg"/><Relationship Id="rId3" Type="http://schemas.openxmlformats.org/officeDocument/2006/relationships/image" Target="../media/image29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79.wmf"/><Relationship Id="rId6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1.png"/><Relationship Id="rId3" Type="http://schemas.openxmlformats.org/officeDocument/2006/relationships/image" Target="../media/image81.png"/><Relationship Id="rId4" Type="http://schemas.openxmlformats.org/officeDocument/2006/relationships/image" Target="../media/image81.png"/><Relationship Id="rId5" Type="http://schemas.openxmlformats.org/officeDocument/2006/relationships/image" Target="../media/image80.wmf"/><Relationship Id="rId6" Type="http://schemas.openxmlformats.org/officeDocument/2006/relationships/image" Target="../media/image81.png"/><Relationship Id="rId7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2.jpe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228600"/>
            <a:ext cx="2438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rt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62120" y="1981080"/>
            <a:ext cx="777240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ess  F5  to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art gam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-304920"/>
            <a:ext cx="176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emplate Version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5105520"/>
            <a:ext cx="5105520" cy="157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d &amp; Cut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s final jeopardy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s 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 and help/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-22860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1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066680" y="1981080"/>
          <a:ext cx="7086600" cy="279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81080"/>
                    <a:ext cx="7086600" cy="27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j0172629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j0105174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195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196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>
              <a:hlinkClick r:id="rId8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140360" y="2470320"/>
          <a:ext cx="2971800" cy="219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40360" y="2470320"/>
                    <a:ext cx="2971800" cy="21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60" y="-152280"/>
            <a:ext cx="24382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1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206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7724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 txBox="1"/>
            <p:nvPr/>
          </p:nvSpPr>
          <p:spPr>
            <a:xfrm>
              <a:off x="78487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08" name="">
              <a:hlinkClick r:id="" action="ppaction://hlinkshowjump?jump=previous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210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>
              <a:hlinkClick r:id="rId7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aphicFrame>
        <p:nvGraphicFramePr>
          <p:cNvPr id="213" name=""/>
          <p:cNvGraphicFramePr/>
          <p:nvPr/>
        </p:nvGraphicFramePr>
        <p:xfrm>
          <a:off x="152280" y="3124080"/>
          <a:ext cx="2590920" cy="1022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2280" y="3124080"/>
                    <a:ext cx="259092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-228600"/>
            <a:ext cx="3048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2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1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2" action="ppaction://hlinksldjump"/>
          </p:cNvPr>
          <p:cNvSpPr/>
          <p:nvPr/>
        </p:nvSpPr>
        <p:spPr>
          <a:xfrm>
            <a:off x="0" y="563868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j010517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224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225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>
              <a:hlinkClick r:id="rId7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049400" y="1981080"/>
          <a:ext cx="7121520" cy="2795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49400" y="1981080"/>
                    <a:ext cx="7121520" cy="27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743200" y="1523880"/>
            <a:ext cx="579132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2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235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239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41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42" name=""/>
          <p:cNvGraphicFramePr/>
          <p:nvPr/>
        </p:nvGraphicFramePr>
        <p:xfrm>
          <a:off x="3370320" y="2470320"/>
          <a:ext cx="4511520" cy="2199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70320" y="2470320"/>
                    <a:ext cx="4511520" cy="21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0" y="3243240"/>
          <a:ext cx="2743200" cy="1076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3243240"/>
                    <a:ext cx="27432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3124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3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57800" y="2666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05120" y="251460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79840" y="2479680"/>
            <a:ext cx="20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3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255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256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914400" y="2098800"/>
          <a:ext cx="7391520" cy="2560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2098800"/>
                    <a:ext cx="7391520" cy="25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819520" y="1523880"/>
            <a:ext cx="5715000" cy="3962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3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267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271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73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74" name=""/>
          <p:cNvGraphicFramePr/>
          <p:nvPr/>
        </p:nvGraphicFramePr>
        <p:xfrm>
          <a:off x="2709720" y="1700280"/>
          <a:ext cx="5832720" cy="3740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09720" y="1700280"/>
                    <a:ext cx="5832720" cy="37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0" y="3359160"/>
          <a:ext cx="2743200" cy="949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3359160"/>
                    <a:ext cx="274320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3733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4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66680" y="43434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9896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4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286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287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203480" y="2098800"/>
          <a:ext cx="6813360" cy="2560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03480" y="2098800"/>
                    <a:ext cx="6813360" cy="25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4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298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302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04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05" name=""/>
          <p:cNvGraphicFramePr/>
          <p:nvPr/>
        </p:nvGraphicFramePr>
        <p:xfrm>
          <a:off x="3314880" y="2470320"/>
          <a:ext cx="4622760" cy="2199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14880" y="2470320"/>
                    <a:ext cx="4622760" cy="21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152280" y="3124080"/>
          <a:ext cx="2667240" cy="1001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2280" y="3124080"/>
                    <a:ext cx="2667240" cy="10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60" y="-228600"/>
            <a:ext cx="3352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5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3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315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316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914400" y="2098800"/>
          <a:ext cx="7392960" cy="2560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2098800"/>
                    <a:ext cx="7392960" cy="25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5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327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331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33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34" name=""/>
          <p:cNvGraphicFramePr/>
          <p:nvPr/>
        </p:nvGraphicFramePr>
        <p:xfrm>
          <a:off x="3700440" y="2489040"/>
          <a:ext cx="3851280" cy="2200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700440" y="2489040"/>
                    <a:ext cx="3851280" cy="22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152280" y="3084480"/>
          <a:ext cx="2667240" cy="924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2280" y="3084480"/>
                    <a:ext cx="266724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64400" y="514440"/>
            <a:ext cx="393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ff99"/>
                </a:solidFill>
                <a:latin typeface="Times New Roman"/>
              </a:rPr>
              <a:t>This is…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BD05092_" descr=""/>
          <p:cNvPicPr/>
          <p:nvPr/>
        </p:nvPicPr>
        <p:blipFill>
          <a:blip r:embed="rId3"/>
          <a:stretch/>
        </p:blipFill>
        <p:spPr>
          <a:xfrm>
            <a:off x="380880" y="2895480"/>
            <a:ext cx="3803760" cy="34513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228600"/>
            <a:ext cx="2438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ening Sc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14400" y="609480"/>
            <a:ext cx="76201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ath Jeopard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5105520"/>
            <a:ext cx="4419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j0236467" descr=""/>
          <p:cNvPicPr/>
          <p:nvPr/>
        </p:nvPicPr>
        <p:blipFill>
          <a:blip r:embed="rId4"/>
          <a:stretch/>
        </p:blipFill>
        <p:spPr>
          <a:xfrm>
            <a:off x="7238880" y="5394240"/>
            <a:ext cx="1463760" cy="1463760"/>
          </a:xfrm>
          <a:prstGeom prst="rect">
            <a:avLst/>
          </a:prstGeom>
          <a:ln w="0">
            <a:noFill/>
          </a:ln>
        </p:spPr>
      </p:pic>
      <p:pic>
        <p:nvPicPr>
          <p:cNvPr id="59" name="BD05091_" descr=""/>
          <p:cNvPicPr/>
          <p:nvPr/>
        </p:nvPicPr>
        <p:blipFill>
          <a:blip r:embed="rId5"/>
          <a:stretch/>
        </p:blipFill>
        <p:spPr>
          <a:xfrm>
            <a:off x="1447920" y="0"/>
            <a:ext cx="3322440" cy="3027240"/>
          </a:xfrm>
          <a:prstGeom prst="rect">
            <a:avLst/>
          </a:prstGeom>
          <a:ln w="0">
            <a:noFill/>
          </a:ln>
        </p:spPr>
      </p:pic>
      <p:pic>
        <p:nvPicPr>
          <p:cNvPr id="60" name="j0182990" descr=""/>
          <p:cNvPicPr/>
          <p:nvPr/>
        </p:nvPicPr>
        <p:blipFill>
          <a:blip r:embed="rId6"/>
          <a:stretch/>
        </p:blipFill>
        <p:spPr>
          <a:xfrm>
            <a:off x="6095880" y="68580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7960" y="3047760"/>
            <a:ext cx="419076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99"/>
                </a:solidFill>
                <a:latin typeface="Times New Roman"/>
              </a:rPr>
              <a:t>Algebra 1 Part 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99"/>
                </a:solidFill>
                <a:latin typeface="Times New Roman"/>
              </a:rPr>
              <a:t>The Coordinate Pla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j0130271" descr=""/>
          <p:cNvPicPr/>
          <p:nvPr/>
        </p:nvPicPr>
        <p:blipFill>
          <a:blip r:embed="rId7"/>
          <a:stretch/>
        </p:blipFill>
        <p:spPr>
          <a:xfrm>
            <a:off x="2057400" y="2362320"/>
            <a:ext cx="4672080" cy="4282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-360" y="-228600"/>
            <a:ext cx="2438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1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4019400" y="1847880"/>
                <a:ext cx="11304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43" name=""/>
          <p:cNvSpPr/>
          <p:nvPr/>
        </p:nvSpPr>
        <p:spPr>
          <a:xfrm>
            <a:off x="990720" y="29718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6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348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349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aphicFrame>
        <p:nvGraphicFramePr>
          <p:cNvPr id="352" name=""/>
          <p:cNvGraphicFramePr/>
          <p:nvPr/>
        </p:nvGraphicFramePr>
        <p:xfrm>
          <a:off x="2541600" y="2046240"/>
          <a:ext cx="3949560" cy="2359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41600" y="2046240"/>
                    <a:ext cx="3949560" cy="23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971800" y="1676520"/>
            <a:ext cx="281952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1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361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365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67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68" name=""/>
          <p:cNvGraphicFramePr/>
          <p:nvPr/>
        </p:nvGraphicFramePr>
        <p:xfrm>
          <a:off x="2841480" y="2557440"/>
          <a:ext cx="5722920" cy="1760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41480" y="2557440"/>
                    <a:ext cx="5722920" cy="17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152280" y="2290680"/>
          <a:ext cx="2667240" cy="1592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2280" y="2290680"/>
                    <a:ext cx="2667240" cy="15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-360" y="-228600"/>
            <a:ext cx="2438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2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8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380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381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2541600" y="2046240"/>
          <a:ext cx="3949560" cy="2359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41600" y="2046240"/>
                    <a:ext cx="3949560" cy="23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2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392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396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98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99" name=""/>
          <p:cNvGraphicFramePr/>
          <p:nvPr/>
        </p:nvGraphicFramePr>
        <p:xfrm>
          <a:off x="3048120" y="2690640"/>
          <a:ext cx="5329080" cy="1705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8120" y="2690640"/>
                    <a:ext cx="5329080" cy="17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"/>
          <p:cNvGraphicFramePr/>
          <p:nvPr/>
        </p:nvGraphicFramePr>
        <p:xfrm>
          <a:off x="152280" y="2411280"/>
          <a:ext cx="2590920" cy="1548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2280" y="2411280"/>
                    <a:ext cx="2590920" cy="15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514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3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7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409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410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2541600" y="2046240"/>
          <a:ext cx="3949560" cy="2359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41600" y="2046240"/>
                    <a:ext cx="3949560" cy="23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3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421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425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27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28" name=""/>
          <p:cNvGraphicFramePr/>
          <p:nvPr/>
        </p:nvGraphicFramePr>
        <p:xfrm>
          <a:off x="3200400" y="2236680"/>
          <a:ext cx="5181480" cy="2508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00400" y="2236680"/>
                    <a:ext cx="5181480" cy="25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76320" y="2370240"/>
          <a:ext cx="2666880" cy="1592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20" y="2370240"/>
                    <a:ext cx="2666880" cy="15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4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6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438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439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2498760" y="2046240"/>
          <a:ext cx="4037040" cy="2359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98760" y="2046240"/>
                    <a:ext cx="4037040" cy="23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438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4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450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454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56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57" name=""/>
          <p:cNvGraphicFramePr/>
          <p:nvPr/>
        </p:nvGraphicFramePr>
        <p:xfrm>
          <a:off x="2971800" y="2114640"/>
          <a:ext cx="5334120" cy="2898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71800" y="2114640"/>
                    <a:ext cx="5334120" cy="28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76320" y="2403360"/>
          <a:ext cx="2666880" cy="1559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20" y="2403360"/>
                    <a:ext cx="2666880" cy="15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-360" y="-228600"/>
            <a:ext cx="2438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5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5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467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468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2346480" y="2046240"/>
          <a:ext cx="4343400" cy="2359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46480" y="2046240"/>
                    <a:ext cx="4343400" cy="23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514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5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478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482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84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85" name=""/>
          <p:cNvGraphicFramePr/>
          <p:nvPr/>
        </p:nvGraphicFramePr>
        <p:xfrm>
          <a:off x="3048120" y="2170080"/>
          <a:ext cx="5333760" cy="270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8120" y="2170080"/>
                    <a:ext cx="533376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7" name=""/>
          <p:cNvGraphicFramePr/>
          <p:nvPr/>
        </p:nvGraphicFramePr>
        <p:xfrm>
          <a:off x="76320" y="2471760"/>
          <a:ext cx="2743200" cy="1490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20" y="2471760"/>
                    <a:ext cx="2743200" cy="14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uestion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228600"/>
            <a:ext cx="8686800" cy="838080"/>
          </a:xfrm>
          <a:prstGeom prst="rect">
            <a:avLst/>
          </a:prstGeom>
          <a:solidFill>
            <a:srgbClr val="00ff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Math Jeopard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2" action="ppaction://hlinksldjump"/>
          </p:cNvPr>
          <p:cNvSpPr/>
          <p:nvPr/>
        </p:nvSpPr>
        <p:spPr>
          <a:xfrm>
            <a:off x="380880" y="1447920"/>
            <a:ext cx="1067040" cy="6094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i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41911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33720" y="25146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4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60199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33720" y="60199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62520" y="51055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7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33720" y="51055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62520" y="41911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34290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0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33720" y="41911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1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34290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25146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3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60199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4" action="ppaction://hlinksldjump"/>
              </a:rPr>
              <a:t>$5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51055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43800" y="60199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543800" y="51055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7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43800" y="41911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43800" y="34290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9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43800" y="25146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0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60199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91320" y="51055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2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91320" y="41911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3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91320" y="34290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4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91320" y="25146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5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3352680"/>
            <a:ext cx="91440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6" action="ppaction://hlinksldjump"/>
              </a:rPr>
              <a:t>$20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372600" y="3429000"/>
            <a:ext cx="87624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372600" y="25146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8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372600" y="4267080"/>
            <a:ext cx="91440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9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372600" y="51055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30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372600" y="60199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31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32" action="ppaction://hlinksldjump"/>
          </p:cNvPr>
          <p:cNvSpPr/>
          <p:nvPr/>
        </p:nvSpPr>
        <p:spPr>
          <a:xfrm>
            <a:off x="2057400" y="1447920"/>
            <a:ext cx="1066680" cy="6094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l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33" action="ppaction://hlinksldjump"/>
          </p:cNvPr>
          <p:cNvSpPr/>
          <p:nvPr/>
        </p:nvSpPr>
        <p:spPr>
          <a:xfrm>
            <a:off x="3809880" y="1447920"/>
            <a:ext cx="1219320" cy="6094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34" action="ppaction://hlinksldjump"/>
          </p:cNvPr>
          <p:cNvSpPr/>
          <p:nvPr/>
        </p:nvSpPr>
        <p:spPr>
          <a:xfrm>
            <a:off x="5715000" y="1447920"/>
            <a:ext cx="1066680" cy="6094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ra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n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35" action="ppaction://hlinksldjump"/>
          </p:cNvPr>
          <p:cNvSpPr/>
          <p:nvPr/>
        </p:nvSpPr>
        <p:spPr>
          <a:xfrm>
            <a:off x="7467480" y="1447920"/>
            <a:ext cx="1067040" cy="6094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dr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Ax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36" action="ppaction://hlinksldjump"/>
          </p:cNvPr>
          <p:cNvSpPr/>
          <p:nvPr/>
        </p:nvSpPr>
        <p:spPr>
          <a:xfrm>
            <a:off x="9296280" y="1447920"/>
            <a:ext cx="1067040" cy="6094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yst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25146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37" action="ppaction://hlinksldjump"/>
              </a:rPr>
              <a:t>$10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HH01298_" descr=""/>
          <p:cNvPicPr/>
          <p:nvPr/>
        </p:nvPicPr>
        <p:blipFill>
          <a:blip r:embed="rId38"/>
          <a:stretch/>
        </p:blipFill>
        <p:spPr>
          <a:xfrm>
            <a:off x="8228160" y="228600"/>
            <a:ext cx="644400" cy="838080"/>
          </a:xfrm>
          <a:prstGeom prst="rect">
            <a:avLst/>
          </a:prstGeom>
          <a:ln w="0">
            <a:noFill/>
          </a:ln>
        </p:spPr>
      </p:pic>
      <p:pic>
        <p:nvPicPr>
          <p:cNvPr id="104" name="j0104750" descr=""/>
          <p:cNvPicPr/>
          <p:nvPr/>
        </p:nvPicPr>
        <p:blipFill>
          <a:blip r:embed="rId39"/>
          <a:stretch/>
        </p:blipFill>
        <p:spPr>
          <a:xfrm>
            <a:off x="7543800" y="457200"/>
            <a:ext cx="676440" cy="360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3808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inal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"/>
          <p:cNvSpPr/>
          <p:nvPr/>
        </p:nvSpPr>
        <p:spPr>
          <a:xfrm>
            <a:off x="2362320" y="0"/>
            <a:ext cx="4419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438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1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3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4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495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496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aphicFrame>
        <p:nvGraphicFramePr>
          <p:cNvPr id="499" name=""/>
          <p:cNvGraphicFramePr/>
          <p:nvPr/>
        </p:nvGraphicFramePr>
        <p:xfrm>
          <a:off x="2438280" y="1676520"/>
          <a:ext cx="4388040" cy="3495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1676520"/>
                    <a:ext cx="4388040" cy="34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1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507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511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513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14" name=""/>
          <p:cNvGraphicFramePr/>
          <p:nvPr/>
        </p:nvGraphicFramePr>
        <p:xfrm>
          <a:off x="3809880" y="2690640"/>
          <a:ext cx="3632400" cy="1760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9880" y="2690640"/>
                    <a:ext cx="3632400" cy="17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76320" y="1776240"/>
          <a:ext cx="2743200" cy="2186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20" y="1776240"/>
                    <a:ext cx="2743200" cy="21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2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2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524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525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1189080" y="1676520"/>
          <a:ext cx="6888240" cy="3495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89080" y="1676520"/>
                    <a:ext cx="6888240" cy="34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209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2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>
            <a:hlinkClick r:id="rId2" action="ppaction://hlinksldjump"/>
          </p:cNvPr>
          <p:cNvSpPr/>
          <p:nvPr/>
        </p:nvSpPr>
        <p:spPr>
          <a:xfrm>
            <a:off x="0" y="563868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537" name="Jeopardy%20Thumbnail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">
              <a:hlinkClick r:id="rId5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541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543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44" name=""/>
          <p:cNvGraphicFramePr/>
          <p:nvPr/>
        </p:nvGraphicFramePr>
        <p:xfrm>
          <a:off x="3700440" y="2690640"/>
          <a:ext cx="3851280" cy="1760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00440" y="2690640"/>
                    <a:ext cx="3851280" cy="17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"/>
          <p:cNvGraphicFramePr/>
          <p:nvPr/>
        </p:nvGraphicFramePr>
        <p:xfrm>
          <a:off x="76320" y="2570040"/>
          <a:ext cx="2743200" cy="1392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320" y="2570040"/>
                    <a:ext cx="2743200" cy="13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438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3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2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554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555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914400" y="1523880"/>
          <a:ext cx="7283520" cy="367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1523880"/>
                    <a:ext cx="7283520" cy="36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209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3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566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570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572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73" name=""/>
          <p:cNvGraphicFramePr/>
          <p:nvPr/>
        </p:nvGraphicFramePr>
        <p:xfrm>
          <a:off x="3200400" y="2800440"/>
          <a:ext cx="5397480" cy="1398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7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00400" y="2800440"/>
                    <a:ext cx="5397480" cy="13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5" name=""/>
          <p:cNvGraphicFramePr/>
          <p:nvPr/>
        </p:nvGraphicFramePr>
        <p:xfrm>
          <a:off x="76320" y="2579760"/>
          <a:ext cx="2743200" cy="1382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7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20" y="2579760"/>
                    <a:ext cx="274320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438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4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1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583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584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8" name=""/>
          <p:cNvGraphicFramePr/>
          <p:nvPr/>
        </p:nvGraphicFramePr>
        <p:xfrm>
          <a:off x="1143000" y="1600200"/>
          <a:ext cx="6800760" cy="3670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3000" y="1600200"/>
                    <a:ext cx="6800760" cy="36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2895480" y="1523880"/>
            <a:ext cx="5943600" cy="3962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514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4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595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599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601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02" name=""/>
          <p:cNvGraphicFramePr/>
          <p:nvPr/>
        </p:nvGraphicFramePr>
        <p:xfrm>
          <a:off x="5075280" y="2800440"/>
          <a:ext cx="1101600" cy="153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0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75280" y="2800440"/>
                    <a:ext cx="110160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4" name=""/>
          <p:cNvGraphicFramePr/>
          <p:nvPr/>
        </p:nvGraphicFramePr>
        <p:xfrm>
          <a:off x="76320" y="2481120"/>
          <a:ext cx="2743200" cy="1481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0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20" y="2481120"/>
                    <a:ext cx="2743200" cy="14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5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8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0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>
            <a:hlinkClick r:id="rId2" action="ppaction://hlinksldjump"/>
          </p:cNvPr>
          <p:cNvSpPr/>
          <p:nvPr/>
        </p:nvSpPr>
        <p:spPr>
          <a:xfrm>
            <a:off x="0" y="563868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j010517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614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>
              <a:hlinkClick r:id="rId7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1139760" y="2046240"/>
          <a:ext cx="6757920" cy="2359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39760" y="2046240"/>
                    <a:ext cx="6757920" cy="23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0" y="-45720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5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625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629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631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32" name=""/>
          <p:cNvGraphicFramePr/>
          <p:nvPr/>
        </p:nvGraphicFramePr>
        <p:xfrm>
          <a:off x="4084560" y="2800440"/>
          <a:ext cx="3081240" cy="153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3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084560" y="2800440"/>
                    <a:ext cx="308124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4" name=""/>
          <p:cNvGraphicFramePr/>
          <p:nvPr/>
        </p:nvGraphicFramePr>
        <p:xfrm>
          <a:off x="76320" y="3005280"/>
          <a:ext cx="2743200" cy="957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20" y="3005280"/>
                    <a:ext cx="274320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Ordered Pai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133720" y="3124080"/>
          <a:ext cx="6440400" cy="24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3124080"/>
                    <a:ext cx="6440400" cy="24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2895480" y="1219320"/>
          <a:ext cx="3414960" cy="1339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95480" y="1219320"/>
                    <a:ext cx="3414960" cy="13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609480" y="2895480"/>
            <a:ext cx="769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-360" y="-533520"/>
            <a:ext cx="2514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1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0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642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643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aphicFrame>
        <p:nvGraphicFramePr>
          <p:cNvPr id="646" name=""/>
          <p:cNvGraphicFramePr/>
          <p:nvPr/>
        </p:nvGraphicFramePr>
        <p:xfrm>
          <a:off x="1066680" y="2165400"/>
          <a:ext cx="7010640" cy="2327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2165400"/>
                    <a:ext cx="701064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8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1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>
            <a:hlinkClick r:id="rId2" action="ppaction://hlinksldjump"/>
          </p:cNvPr>
          <p:cNvSpPr/>
          <p:nvPr/>
        </p:nvSpPr>
        <p:spPr>
          <a:xfrm>
            <a:off x="0" y="563868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655" name="Jeopardy%20Thumbnail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">
              <a:hlinkClick r:id="rId5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659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661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62" name=""/>
          <p:cNvGraphicFramePr/>
          <p:nvPr/>
        </p:nvGraphicFramePr>
        <p:xfrm>
          <a:off x="4414680" y="2800440"/>
          <a:ext cx="2421000" cy="153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14680" y="2800440"/>
                    <a:ext cx="242100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4" name=""/>
          <p:cNvGraphicFramePr/>
          <p:nvPr/>
        </p:nvGraphicFramePr>
        <p:xfrm>
          <a:off x="76320" y="3051000"/>
          <a:ext cx="2743200" cy="911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320" y="3051000"/>
                    <a:ext cx="2743200" cy="9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438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2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669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0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1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672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673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676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1066680" y="2165400"/>
          <a:ext cx="7010640" cy="2327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2165400"/>
                    <a:ext cx="701064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209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2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684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688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690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91" name=""/>
          <p:cNvGraphicFramePr/>
          <p:nvPr/>
        </p:nvGraphicFramePr>
        <p:xfrm>
          <a:off x="4579920" y="2800440"/>
          <a:ext cx="2090880" cy="153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9920" y="2800440"/>
                    <a:ext cx="209088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76320" y="3051000"/>
          <a:ext cx="2743200" cy="911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20" y="3051000"/>
                    <a:ext cx="2743200" cy="9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438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3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7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9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701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702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1066680" y="2165400"/>
          <a:ext cx="7010640" cy="2327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2165400"/>
                    <a:ext cx="701064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3124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3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713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717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719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20" name=""/>
          <p:cNvGraphicFramePr/>
          <p:nvPr/>
        </p:nvGraphicFramePr>
        <p:xfrm>
          <a:off x="4414680" y="2800440"/>
          <a:ext cx="2421000" cy="153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2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414680" y="2800440"/>
                    <a:ext cx="242100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2" name=""/>
          <p:cNvGraphicFramePr/>
          <p:nvPr/>
        </p:nvGraphicFramePr>
        <p:xfrm>
          <a:off x="76320" y="3051000"/>
          <a:ext cx="2743200" cy="911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2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20" y="3051000"/>
                    <a:ext cx="2743200" cy="9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4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6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727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8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9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730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731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1066680" y="2165400"/>
          <a:ext cx="7010640" cy="2327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2165400"/>
                    <a:ext cx="701064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4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742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3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746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748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49" name=""/>
          <p:cNvGraphicFramePr/>
          <p:nvPr/>
        </p:nvGraphicFramePr>
        <p:xfrm>
          <a:off x="4579920" y="2800440"/>
          <a:ext cx="2090880" cy="153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9920" y="2800440"/>
                    <a:ext cx="209088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1" name=""/>
          <p:cNvGraphicFramePr/>
          <p:nvPr/>
        </p:nvGraphicFramePr>
        <p:xfrm>
          <a:off x="76320" y="3051000"/>
          <a:ext cx="2743200" cy="911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5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20" y="3051000"/>
                    <a:ext cx="2743200" cy="9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209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5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5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756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7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8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759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760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4" name=""/>
          <p:cNvGraphicFramePr/>
          <p:nvPr/>
        </p:nvGraphicFramePr>
        <p:xfrm>
          <a:off x="990720" y="2209680"/>
          <a:ext cx="7337160" cy="2184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2209680"/>
                    <a:ext cx="7337160" cy="21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3048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5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>
            <a:hlinkClick r:id="rId2" action="ppaction://hlinksldjump"/>
          </p:cNvPr>
          <p:cNvSpPr/>
          <p:nvPr/>
        </p:nvSpPr>
        <p:spPr>
          <a:xfrm>
            <a:off x="0" y="563868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772" name="Jeopardy%20Thumbnail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>
              <a:hlinkClick r:id="rId5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776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778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79" name=""/>
          <p:cNvGraphicFramePr/>
          <p:nvPr/>
        </p:nvGraphicFramePr>
        <p:xfrm>
          <a:off x="4414680" y="2800440"/>
          <a:ext cx="2421000" cy="153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14680" y="2800440"/>
                    <a:ext cx="242100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1" name=""/>
          <p:cNvGraphicFramePr/>
          <p:nvPr/>
        </p:nvGraphicFramePr>
        <p:xfrm>
          <a:off x="76320" y="3146400"/>
          <a:ext cx="2743200" cy="816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8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320" y="3146400"/>
                    <a:ext cx="274320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Solving for 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048120" y="1295280"/>
          <a:ext cx="2666880" cy="1592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1295280"/>
                    <a:ext cx="2666880" cy="15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685800" y="3581280"/>
          <a:ext cx="7467480" cy="2114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" y="3581280"/>
                    <a:ext cx="746748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76320" y="3048120"/>
            <a:ext cx="883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1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5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786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7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>
            <a:hlinkClick r:id="rId2" action="ppaction://hlinksldjump"/>
          </p:cNvPr>
          <p:cNvSpPr/>
          <p:nvPr/>
        </p:nvSpPr>
        <p:spPr>
          <a:xfrm>
            <a:off x="0" y="563868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9" name="j010517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790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791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">
              <a:hlinkClick r:id="rId7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aphicFrame>
        <p:nvGraphicFramePr>
          <p:cNvPr id="794" name=""/>
          <p:cNvGraphicFramePr/>
          <p:nvPr/>
        </p:nvGraphicFramePr>
        <p:xfrm>
          <a:off x="914400" y="1662120"/>
          <a:ext cx="7315200" cy="3398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9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14400" y="1662120"/>
                    <a:ext cx="731520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6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3048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1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802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806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808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09" name=""/>
          <p:cNvGraphicFramePr/>
          <p:nvPr/>
        </p:nvGraphicFramePr>
        <p:xfrm>
          <a:off x="3048120" y="2666880"/>
          <a:ext cx="5257800" cy="1474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8120" y="2666880"/>
                    <a:ext cx="5257800" cy="14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1" name=""/>
          <p:cNvGraphicFramePr/>
          <p:nvPr/>
        </p:nvGraphicFramePr>
        <p:xfrm>
          <a:off x="76320" y="2687760"/>
          <a:ext cx="2743200" cy="1274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20" y="2687760"/>
                    <a:ext cx="274320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3886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2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5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816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7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8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191120" y="5638680"/>
            <a:ext cx="1209600" cy="1055880"/>
          </a:xfrm>
          <a:prstGeom prst="rect">
            <a:avLst/>
          </a:prstGeom>
          <a:ln w="0">
            <a:noFill/>
          </a:ln>
        </p:spPr>
      </p:pic>
      <p:grpSp>
        <p:nvGrpSpPr>
          <p:cNvPr id="819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820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1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823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4" name=""/>
          <p:cNvGraphicFramePr/>
          <p:nvPr/>
        </p:nvGraphicFramePr>
        <p:xfrm>
          <a:off x="914400" y="1662120"/>
          <a:ext cx="7315200" cy="3398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1662120"/>
                    <a:ext cx="731520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514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2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831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2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835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837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38" name=""/>
          <p:cNvGraphicFramePr/>
          <p:nvPr/>
        </p:nvGraphicFramePr>
        <p:xfrm>
          <a:off x="0" y="2652840"/>
          <a:ext cx="2819520" cy="1309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3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2652840"/>
                    <a:ext cx="281952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0" name=""/>
          <p:cNvGraphicFramePr/>
          <p:nvPr/>
        </p:nvGraphicFramePr>
        <p:xfrm>
          <a:off x="3002040" y="2666880"/>
          <a:ext cx="5349960" cy="1474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4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002040" y="2666880"/>
                    <a:ext cx="5349960" cy="14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3200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3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4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845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6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848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849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0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3" name=""/>
          <p:cNvGraphicFramePr/>
          <p:nvPr/>
        </p:nvGraphicFramePr>
        <p:xfrm>
          <a:off x="914400" y="1662120"/>
          <a:ext cx="7315200" cy="3398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1662120"/>
                    <a:ext cx="731520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2819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3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860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864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5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866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67" name=""/>
          <p:cNvGraphicFramePr/>
          <p:nvPr/>
        </p:nvGraphicFramePr>
        <p:xfrm>
          <a:off x="76320" y="2687760"/>
          <a:ext cx="2743200" cy="1274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6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320" y="2687760"/>
                    <a:ext cx="274320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9" name=""/>
          <p:cNvGraphicFramePr/>
          <p:nvPr/>
        </p:nvGraphicFramePr>
        <p:xfrm>
          <a:off x="3002040" y="2666880"/>
          <a:ext cx="5349960" cy="1474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7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002040" y="2666880"/>
                    <a:ext cx="5349960" cy="14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438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4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3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874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5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6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877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878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9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881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2" name=""/>
          <p:cNvGraphicFramePr/>
          <p:nvPr/>
        </p:nvGraphicFramePr>
        <p:xfrm>
          <a:off x="914400" y="1662120"/>
          <a:ext cx="7315200" cy="3398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1662120"/>
                    <a:ext cx="731520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590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4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889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0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893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895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96" name=""/>
          <p:cNvGraphicFramePr/>
          <p:nvPr/>
        </p:nvGraphicFramePr>
        <p:xfrm>
          <a:off x="76320" y="2687760"/>
          <a:ext cx="2743200" cy="1274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9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320" y="2687760"/>
                    <a:ext cx="274320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8" name=""/>
          <p:cNvGraphicFramePr/>
          <p:nvPr/>
        </p:nvGraphicFramePr>
        <p:xfrm>
          <a:off x="3002040" y="2666880"/>
          <a:ext cx="5349960" cy="1474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002040" y="2666880"/>
                    <a:ext cx="5349960" cy="14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514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5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2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903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4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5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906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907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8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910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1" name=""/>
          <p:cNvGraphicFramePr/>
          <p:nvPr/>
        </p:nvGraphicFramePr>
        <p:xfrm>
          <a:off x="914400" y="1662120"/>
          <a:ext cx="7315200" cy="3398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1662120"/>
                    <a:ext cx="731520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743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5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918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9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922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3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924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25" name=""/>
          <p:cNvGraphicFramePr/>
          <p:nvPr/>
        </p:nvGraphicFramePr>
        <p:xfrm>
          <a:off x="3424320" y="2800440"/>
          <a:ext cx="4402080" cy="153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2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24320" y="2800440"/>
                    <a:ext cx="440208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7" name=""/>
          <p:cNvGraphicFramePr/>
          <p:nvPr/>
        </p:nvGraphicFramePr>
        <p:xfrm>
          <a:off x="76320" y="2722680"/>
          <a:ext cx="2666880" cy="1239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2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20" y="2722680"/>
                    <a:ext cx="266688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819520" y="1752480"/>
          <a:ext cx="3487680" cy="401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1752480"/>
                    <a:ext cx="3487680" cy="40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4039560" y="13716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-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29880" y="35053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-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50320" y="350532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92920" y="571500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53800" y="50292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4647960" y="3809520"/>
            <a:ext cx="19810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4880" y="144792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ordinate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57800" y="2514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334120" y="2133720"/>
          <a:ext cx="765000" cy="484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4120" y="2133720"/>
                    <a:ext cx="76500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3809880" y="3276720"/>
          <a:ext cx="782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9880" y="3276720"/>
                    <a:ext cx="782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4533840" y="36957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971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1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1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932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3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>
            <a:hlinkClick r:id="rId2" action="ppaction://hlinksldjump"/>
          </p:cNvPr>
          <p:cNvSpPr/>
          <p:nvPr/>
        </p:nvSpPr>
        <p:spPr>
          <a:xfrm>
            <a:off x="0" y="563868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5" name="j010517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936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937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8" name="">
              <a:hlinkClick r:id="rId7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aphicFrame>
        <p:nvGraphicFramePr>
          <p:cNvPr id="940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4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2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819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1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948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9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952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3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954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55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2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9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960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1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2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963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964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5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967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8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70" name=""/>
          <p:cNvGrpSpPr/>
          <p:nvPr/>
        </p:nvGrpSpPr>
        <p:grpSpPr>
          <a:xfrm>
            <a:off x="2971800" y="3657600"/>
            <a:ext cx="4181400" cy="2233440"/>
            <a:chOff x="2971800" y="3657600"/>
            <a:chExt cx="4181400" cy="2233440"/>
          </a:xfrm>
        </p:grpSpPr>
        <p:pic>
          <p:nvPicPr>
            <p:cNvPr id="971" name="" descr=""/>
            <p:cNvPicPr/>
            <p:nvPr/>
          </p:nvPicPr>
          <p:blipFill>
            <a:blip r:embed="rId9"/>
            <a:stretch/>
          </p:blipFill>
          <p:spPr>
            <a:xfrm>
              <a:off x="3733920" y="3657600"/>
              <a:ext cx="2381040" cy="22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2" name=""/>
            <p:cNvSpPr txBox="1"/>
            <p:nvPr/>
          </p:nvSpPr>
          <p:spPr>
            <a:xfrm>
              <a:off x="2971800" y="4343400"/>
              <a:ext cx="4181400" cy="102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DAILY DOUBLE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3124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2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978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982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984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85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8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3048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3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1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2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993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994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5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997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8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04920" y="914400"/>
            <a:ext cx="8534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3581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3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1006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7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009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1010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1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012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13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1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209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4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7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1018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9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0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1021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1022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3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025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6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2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590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4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1033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4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036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1037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8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039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40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4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5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4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1045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6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7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1048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1049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0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052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3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-360" y="-380880"/>
            <a:ext cx="2971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5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9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1060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1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1064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5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066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67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6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Straight Lin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590920" y="1219320"/>
          <a:ext cx="3886200" cy="129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1219320"/>
                    <a:ext cx="388620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2819520" y="2514600"/>
          <a:ext cx="3487680" cy="4017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19520" y="2514600"/>
                    <a:ext cx="3487680" cy="40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4152960" y="48387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809880" y="4952880"/>
          <a:ext cx="858960" cy="373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9880" y="4952880"/>
                    <a:ext cx="858960" cy="3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525780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8576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288040" y="3733920"/>
          <a:ext cx="603000" cy="372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288040" y="3733920"/>
                    <a:ext cx="6030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6019920" y="2895480"/>
          <a:ext cx="603000" cy="373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019920" y="2895480"/>
                    <a:ext cx="603000" cy="3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 flipV="1">
            <a:off x="4191120" y="2895480"/>
            <a:ext cx="182880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629400" y="411480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3200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al Jeopardy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567080" y="0"/>
            <a:ext cx="619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inal Jeopard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2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1073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4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5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1076" name="Jeopardy%20Thumbnail" descr=""/>
            <p:cNvPicPr/>
            <p:nvPr/>
          </p:nvPicPr>
          <p:blipFill>
            <a:blip r:embed="rId2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7" name=""/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1079" name="j0105174" descr=""/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0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2819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al Jeopardy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953680" y="0"/>
            <a:ext cx="318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al Jeopar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6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1087" name="Jeopardy%20Thumbnail" descr=""/>
            <p:cNvPicPr/>
            <p:nvPr/>
          </p:nvPicPr>
          <p:blipFill>
            <a:blip r:embed="rId2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8" name=""/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090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1091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2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093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94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al Jeopardy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09480" y="2895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ce 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2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289080" cy="289080"/>
          </a:xfrm>
          <a:prstGeom prst="rect">
            <a:avLst/>
          </a:prstGeom>
          <a:ln w="0">
            <a:noFill/>
          </a:ln>
        </p:spPr>
      </p:pic>
      <p:sp>
        <p:nvSpPr>
          <p:cNvPr id="1103" name=""/>
          <p:cNvSpPr/>
          <p:nvPr/>
        </p:nvSpPr>
        <p:spPr>
          <a:xfrm>
            <a:off x="1752120" y="1219320"/>
            <a:ext cx="30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0065A Slot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4" name="" descr=""/>
          <p:cNvPicPr/>
          <p:nvPr/>
        </p:nvPicPr>
        <p:blipFill>
          <a:blip r:embed="rId2"/>
          <a:stretch/>
        </p:blipFill>
        <p:spPr>
          <a:xfrm>
            <a:off x="838080" y="2209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05" name=""/>
          <p:cNvSpPr/>
          <p:nvPr/>
        </p:nvSpPr>
        <p:spPr>
          <a:xfrm>
            <a:off x="1828800" y="198108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0074879 Space La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6" name="" descr=""/>
          <p:cNvPicPr/>
          <p:nvPr/>
        </p:nvPicPr>
        <p:blipFill>
          <a:blip r:embed="rId3"/>
          <a:stretch/>
        </p:blipFill>
        <p:spPr>
          <a:xfrm>
            <a:off x="838080" y="3048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07" name=""/>
          <p:cNvSpPr/>
          <p:nvPr/>
        </p:nvSpPr>
        <p:spPr>
          <a:xfrm>
            <a:off x="1828800" y="2895480"/>
            <a:ext cx="31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0074877 Space Las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520" y="5638680"/>
            <a:ext cx="423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Not Delet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ains objects for g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9" name="" descr=""/>
          <p:cNvPicPr/>
          <p:nvPr/>
        </p:nvPicPr>
        <p:blipFill>
          <a:blip r:embed="rId4"/>
          <a:stretch/>
        </p:blipFill>
        <p:spPr>
          <a:xfrm>
            <a:off x="853920" y="3844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10" name=""/>
          <p:cNvSpPr/>
          <p:nvPr/>
        </p:nvSpPr>
        <p:spPr>
          <a:xfrm>
            <a:off x="1904760" y="3733920"/>
            <a:ext cx="34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0097484 Large Explo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nd and other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4724280" y="4191120"/>
            <a:ext cx="4181400" cy="2233440"/>
            <a:chOff x="4724280" y="4191120"/>
            <a:chExt cx="4181400" cy="2233440"/>
          </a:xfrm>
        </p:grpSpPr>
        <p:pic>
          <p:nvPicPr>
            <p:cNvPr id="1113" name="" descr=""/>
            <p:cNvPicPr/>
            <p:nvPr/>
          </p:nvPicPr>
          <p:blipFill>
            <a:blip r:embed="rId5"/>
            <a:stretch/>
          </p:blipFill>
          <p:spPr>
            <a:xfrm>
              <a:off x="5486400" y="4191120"/>
              <a:ext cx="2381040" cy="22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4" name=""/>
            <p:cNvSpPr txBox="1"/>
            <p:nvPr/>
          </p:nvSpPr>
          <p:spPr>
            <a:xfrm>
              <a:off x="4724280" y="4876920"/>
              <a:ext cx="4181400" cy="102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DAILY DOUBLE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  <p:pic>
        <p:nvPicPr>
          <p:cNvPr id="1115" name="" descr=""/>
          <p:cNvPicPr/>
          <p:nvPr/>
        </p:nvPicPr>
        <p:blipFill>
          <a:blip r:embed="rId6"/>
          <a:stretch/>
        </p:blipFill>
        <p:spPr>
          <a:xfrm>
            <a:off x="838080" y="4648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16" name=""/>
          <p:cNvSpPr/>
          <p:nvPr/>
        </p:nvSpPr>
        <p:spPr>
          <a:xfrm>
            <a:off x="1906560" y="4572000"/>
            <a:ext cx="28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0074988 Space 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sign Cred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Design Credits – Version 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33520" y="1295280"/>
            <a:ext cx="8001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Point Slide Show creat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y Wy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n Hope High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risville, 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3" name="Randy%202002%20School%20Photo" descr=""/>
          <p:cNvPicPr/>
          <p:nvPr/>
        </p:nvPicPr>
        <p:blipFill>
          <a:blip r:embed="rId2"/>
          <a:srcRect l="0" t="0" r="0" b="4599"/>
          <a:stretch/>
        </p:blipFill>
        <p:spPr>
          <a:xfrm>
            <a:off x="3657600" y="3429000"/>
            <a:ext cx="1798560" cy="2362320"/>
          </a:xfrm>
          <a:prstGeom prst="rect">
            <a:avLst/>
          </a:prstGeom>
          <a:ln w="0">
            <a:noFill/>
          </a:ln>
        </p:spPr>
      </p:pic>
      <p:sp>
        <p:nvSpPr>
          <p:cNvPr id="1124" name=""/>
          <p:cNvSpPr/>
          <p:nvPr/>
        </p:nvSpPr>
        <p:spPr>
          <a:xfrm>
            <a:off x="1676520" y="586728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apted from Slide Show by Carol N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vision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Revision Histo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33520" y="1295280"/>
            <a:ext cx="80010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sion 4 – June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19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 points to doll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19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ed link to credits screen by clicking on “Math Jeopardy” on game bo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19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 problems and answers to generic place hol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19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or changes on opening game scr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ing Ar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lp for Teachers – Keep as las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Help for Teache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371600" y="1143000"/>
            <a:ext cx="7162920" cy="56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reate a new set of categories and problem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pdate topics on title screen (slide 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ame category headers on question board (slide 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ge category help slides (immediately following question boa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ify questions and answers (answers immediately follow each question sli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t and Paste Daily Dou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p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estions and answers are MathType objects.  It is easier if you keep it that way.  Even for text problem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 put copy of question on the answer slide, copy and paste the MathType object from the question slide then resiz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EXIT graphic on the game board will exit WITHOUT saving anything.  It is intended for student use when play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ke sure you test your game to make sure everything is linked and working correct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en playing the intro screen of the game you can click in the lower right corner at any time to skip the intro and go directly to the question boar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 NO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ge any hyperlin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867280" y="6324480"/>
            <a:ext cx="305964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ype &lt;ctrl&gt;&lt;home&gt; to return to 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sl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Quadrants &amp; Ax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819520" y="1752480"/>
          <a:ext cx="3487680" cy="401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1752480"/>
                    <a:ext cx="3487680" cy="40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5335200" y="2514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39560" y="13716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-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06200" y="35053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-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06400" y="251460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9720" y="449568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59960" y="44956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Myste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’re on your ow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CPSS</cp:lastModifiedBy>
  <dcterms:modified xsi:type="dcterms:W3CDTF">2003-10-28T22:22:22Z</dcterms:modified>
  <cp:revision>192</cp:revision>
  <dc:subject/>
  <dc:title>PowerPoint Presentation</dc:title>
</cp:coreProperties>
</file>